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9A3-3F8D-4C6E-BA50-B25B74CE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849-3744-4EE3-ADA0-92264C65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E5FE-C7F7-4D97-9340-6675952F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940B-F363-4EE8-9084-A2F0C2BC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23E6E-75C0-4678-ACE8-AF58EE34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57F7E-B3B4-40D6-AD88-203BD8C6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BF590-CE0D-4688-BE79-0F58AD3E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D04B1-D8D4-4782-A766-482007ED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096CC-B667-43AF-989E-8D7D7828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074BE-7ECD-4434-84F7-F35AFE53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E82EA-D2E2-4714-99EE-CC34EA75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E19-47CE-4578-9F91-ED48233E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ED6DF-20D7-4FE8-A768-8663B0C4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348E4-4BAB-4252-89E2-721701EF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54A6A-EF62-43BE-B550-1DD89EAE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7CD51-1AF7-4210-8862-6B353A64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F7715-E362-4A68-8F48-B60137FA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59A-0779-471D-BD7C-D8255532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9CF-5C25-428C-BD8A-35A70FB0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1C2-C855-40C1-A32E-3706167F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5FE-FA19-4325-8CD2-1BAB332E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E9A-D7E2-4D18-9BC7-485FCC72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09B-E665-48E1-A222-C6FEB207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AC5-3EF3-464F-8F6A-12A40BFB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E923-4A4B-44EC-9B90-BA9323E5DCB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A899-96A0-4775-B351-5FABDE8D3FA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yqh.cn/" TargetMode="External"/><Relationship Id="rId3" Type="http://schemas.openxmlformats.org/officeDocument/2006/relationships/hyperlink" Target="mailto:zjf1977@hotmail.co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大连良运期货经纪有限公司简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大连良运期货经纪有限公司是经中国证监会批准，辽宁省工商行政管理局注册登记，注册资本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亿元人民币，由大通证券股份有限公司、大连良运集团有限责任公司、大连华信信托股份有限公司三家股东构成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公司现是大连商品交易所、上海期货交易所和郑州商品交易所的正式会员，中国金融期货交易所交易会员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结算部主要职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负责每日结算、客户保证金比例的调整、保证金出入的录入、结算单和相关通知的发送。并负责与交易所结算结果进行核对，对公司所有帐户进行结算，向客户报告成交、持仓情况及盈亏状况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综合部主要职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负责制定并实施公司系统化的合规政策、   程序和方案，并通过对风险进行有效识别、评估、控制和监测，以有效管理公司的合规风险，最大限度地减少违规发生的可能性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风控部主要职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负责每天的客户交易和持仓风险通知､督促客户追加保证金､强行替客户平仓､客户电话委托录音记录等工作 。并负责跟踪、监督、控制公司整体的内、外部风险情况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信息部主要职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搜集、整理、分析影响期货市场、现货市场的信息，制作研发产品、各类操作计划和投资报告。并负责为不同情况的客户设计针对性较强的期货投资产品。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客服部主要职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负责普及期货知识，宣传公司业务，树立公司形象。开发市场，发展、培训客户，      使客户了解期货交易的规则 、业务及流程。并负责为公司总部的现场客户提供全方位服务，为非现场客户提供咨询和技术服务，接受并处理客户投诉。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良运期货营业部分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大连营业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长春营业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郑州营业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北京营业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南宁营业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沈阳营业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石家庄营业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良运期货长春营业部介绍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良运期货长春营业部成立于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00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。多年来，秉承“客户至上、诚实守信”的经营理念，以“追求客户赢利、倡导理性投资”为服务宗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良运期货的优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依托股东雄厚的粮食现货背景，凭借其覆盖全国的粮食购销网络和完善的粮食物流体系，公司可以为客户提供集粮食现货收购、发运接货、仓储检验、仓单注册、抵押贷款、实物交割于一体的一条龙服务。“做套保、找良运”，客户在良运期货进行粮食套保交易可省时、省力、省心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联系方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lyqh.c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邮箱：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zjf1977@hotma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电话：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0431—8850665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389483616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联系人：     张先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大连良运期货经纪有限公司简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多年来，良运期货始终坚持“客户至上、诚实守信”的经营理念，遵循“防范风险、稳健经营、优质服务、共同发展”的经营原则，在资金安全、规范运作等方面树立了良好的企业形象，赢得了客户的信任。公司交易量、客户数量和保证金等都在飞速增长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大连良运期货经纪有限公司简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良好的企业信誉，经验丰富的管理团队，完善的风险控制体系和雄厚的股东实力，将为客户提供最优质专业的服务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股东介绍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大通证券股份有限公司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成立于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，经过六年证券市场的洗礼，现已跻身规范类券商行列，注册资本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亿元。公司总部位于美丽的海滨城市大连，在全国设有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家分支机构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股东介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大连良运集团有限责任公司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成立于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96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，是以粮食贸易、仓储、物流、粮食交易为主，集房地产开发、酒店经营于一体的综合性企业集团。是大连市商贸流通、房地产和餐饮服务领域支柱企业之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股东介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大连华信信托股份有限公司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成立于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98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，二十余年的发展历程中，在各级政府和社会各界的信任和支持下，企业遵循“规范运作、稳健经营”原则，经营业绩稳步增长，人均利润率、资本收益率等指标一直处于地区和行业较高水平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良运期货公司各部门设置及职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良运期货公司主要下设以下七个部门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技术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财务部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结算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综合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风控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信息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客服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技术部主要职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负责电脑软、硬件和各种通讯设备的维护、管理和更新，确保公司电脑网络系统的正常运行。并负责公司交易系统和行情显示系统软、硬件的升级与更新工作，以及内部管理软件的开发与维护工作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财务部主要职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负责公司的日常会计核算和财务管理，编制财务预算，提供会计报告。 负责客户出入金的收付 ，监督、审核保证金帐户，对客户保证金进行管理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jf</cp:lastModifiedBy>
  <dcterms:modified xsi:type="dcterms:W3CDTF">2008-11-13T06:26:5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